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E STAT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4" descr="D:\C21 PowerPoint\Multi_Journal\art for blue\Ch26\Ch26-01a.jpg"/>
          <p:cNvPicPr/>
          <p:nvPr/>
        </p:nvPicPr>
        <p:blipFill>
          <a:blip r:embed="rId1"/>
          <a:srcRect l="1180" t="0" r="0" b="19388"/>
          <a:stretch/>
        </p:blipFill>
        <p:spPr>
          <a:xfrm>
            <a:off x="457200" y="914400"/>
            <a:ext cx="480528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5410080" y="18050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me from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541008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e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410080" y="216864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 before and after Federal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5410080" y="1432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Purc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9"/>
          <p:cNvGrpSpPr/>
          <p:nvPr/>
        </p:nvGrpSpPr>
        <p:grpSpPr>
          <a:xfrm>
            <a:off x="1905120" y="1863720"/>
            <a:ext cx="2209680" cy="304920"/>
            <a:chOff x="1905120" y="1863720"/>
            <a:chExt cx="2209680" cy="304920"/>
          </a:xfrm>
        </p:grpSpPr>
        <p:sp>
          <p:nvSpPr>
            <p:cNvPr id="47" name="Line 15"/>
            <p:cNvSpPr/>
            <p:nvPr/>
          </p:nvSpPr>
          <p:spPr>
            <a:xfrm>
              <a:off x="1905120" y="2057400"/>
              <a:ext cx="22096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5"/>
            <p:cNvSpPr/>
            <p:nvPr/>
          </p:nvSpPr>
          <p:spPr>
            <a:xfrm>
              <a:off x="2247840" y="1863720"/>
              <a:ext cx="30492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21"/>
          <p:cNvGrpSpPr/>
          <p:nvPr/>
        </p:nvGrpSpPr>
        <p:grpSpPr>
          <a:xfrm>
            <a:off x="1968480" y="4911840"/>
            <a:ext cx="2209680" cy="304560"/>
            <a:chOff x="1968480" y="4911840"/>
            <a:chExt cx="2209680" cy="304560"/>
          </a:xfrm>
        </p:grpSpPr>
        <p:sp>
          <p:nvSpPr>
            <p:cNvPr id="50" name="Line 17"/>
            <p:cNvSpPr/>
            <p:nvPr/>
          </p:nvSpPr>
          <p:spPr>
            <a:xfrm>
              <a:off x="1968480" y="5079960"/>
              <a:ext cx="22096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2247840" y="4911840"/>
              <a:ext cx="30492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23"/>
          <p:cNvGrpSpPr/>
          <p:nvPr/>
        </p:nvGrpSpPr>
        <p:grpSpPr>
          <a:xfrm>
            <a:off x="1749600" y="2549520"/>
            <a:ext cx="1755720" cy="304920"/>
            <a:chOff x="1749600" y="2549520"/>
            <a:chExt cx="1755720" cy="304920"/>
          </a:xfrm>
        </p:grpSpPr>
        <p:sp>
          <p:nvSpPr>
            <p:cNvPr id="53" name="Line 16"/>
            <p:cNvSpPr/>
            <p:nvPr/>
          </p:nvSpPr>
          <p:spPr>
            <a:xfrm>
              <a:off x="1749600" y="2730600"/>
              <a:ext cx="1755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1905120" y="254952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22"/>
          <p:cNvGrpSpPr/>
          <p:nvPr/>
        </p:nvGrpSpPr>
        <p:grpSpPr>
          <a:xfrm>
            <a:off x="1955880" y="6029280"/>
            <a:ext cx="2209680" cy="304920"/>
            <a:chOff x="1955880" y="6029280"/>
            <a:chExt cx="2209680" cy="304920"/>
          </a:xfrm>
        </p:grpSpPr>
        <p:sp>
          <p:nvSpPr>
            <p:cNvPr id="56" name="Line 13"/>
            <p:cNvSpPr/>
            <p:nvPr/>
          </p:nvSpPr>
          <p:spPr>
            <a:xfrm>
              <a:off x="1955880" y="6210360"/>
              <a:ext cx="22096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7"/>
            <p:cNvSpPr/>
            <p:nvPr/>
          </p:nvSpPr>
          <p:spPr>
            <a:xfrm>
              <a:off x="2247840" y="6029280"/>
              <a:ext cx="30492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7"/>
          <p:cNvGrpSpPr/>
          <p:nvPr/>
        </p:nvGrpSpPr>
        <p:grpSpPr>
          <a:xfrm>
            <a:off x="1974960" y="6283440"/>
            <a:ext cx="2209680" cy="304560"/>
            <a:chOff x="1974960" y="6283440"/>
            <a:chExt cx="2209680" cy="304560"/>
          </a:xfrm>
        </p:grpSpPr>
        <p:sp>
          <p:nvSpPr>
            <p:cNvPr id="59" name="Line 25"/>
            <p:cNvSpPr/>
            <p:nvPr/>
          </p:nvSpPr>
          <p:spPr>
            <a:xfrm>
              <a:off x="1974960" y="6464160"/>
              <a:ext cx="22096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6"/>
            <p:cNvSpPr/>
            <p:nvPr/>
          </p:nvSpPr>
          <p:spPr>
            <a:xfrm>
              <a:off x="2666880" y="6283440"/>
              <a:ext cx="30492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2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1, page 6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457200" y="914400"/>
            <a:ext cx="8229600" cy="3809880"/>
            <a:chOff x="457200" y="914400"/>
            <a:chExt cx="8229600" cy="3809880"/>
          </a:xfrm>
        </p:grpSpPr>
        <p:grpSp>
          <p:nvGrpSpPr>
            <p:cNvPr id="63" name="Group 8"/>
            <p:cNvGrpSpPr/>
            <p:nvPr/>
          </p:nvGrpSpPr>
          <p:grpSpPr>
            <a:xfrm>
              <a:off x="457200" y="914400"/>
              <a:ext cx="8229600" cy="3809880"/>
              <a:chOff x="457200" y="914400"/>
              <a:chExt cx="8229600" cy="3809880"/>
            </a:xfrm>
          </p:grpSpPr>
          <p:sp>
            <p:nvSpPr>
              <p:cNvPr id="64" name="Rectangle 6"/>
              <p:cNvSpPr/>
              <p:nvPr/>
            </p:nvSpPr>
            <p:spPr>
              <a:xfrm>
                <a:off x="457200" y="914400"/>
                <a:ext cx="8229600" cy="3809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Text Box 4"/>
              <p:cNvSpPr/>
              <p:nvPr/>
            </p:nvSpPr>
            <p:spPr>
              <a:xfrm>
                <a:off x="517680" y="1066680"/>
                <a:ext cx="8169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1833480"/>
                    <a:tab algn="ctr" pos="5032440"/>
                    <a:tab algn="ctr" pos="70801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eptabl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ctr" pos="1833480"/>
                    <a:tab algn="ctr" pos="5032440"/>
                    <a:tab algn="ctr" pos="70801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ome Statement Item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ctr" pos="1833480"/>
                    <a:tab algn="ctr" pos="5032440"/>
                    <a:tab algn="ctr" pos="70801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rcentag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rcent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Line 7"/>
            <p:cNvSpPr/>
            <p:nvPr/>
          </p:nvSpPr>
          <p:spPr>
            <a:xfrm>
              <a:off x="457200" y="21337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ING AN INCOME STAT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17680" y="2362320"/>
            <a:ext cx="816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s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.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of merchandise s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more than 58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profit on 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more than 42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operating expen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more than 35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 from opera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less than 7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de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more than 0.1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833480"/>
                <a:tab algn="l" pos="4114800"/>
                <a:tab algn="dec" pos="7080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income before federal income 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less than 6.9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1, page 6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10T04:32:38Z</cp:lastPrinted>
  <dcterms:modified xsi:type="dcterms:W3CDTF">2012-01-02T03:02:34Z</dcterms:modified>
  <cp:revision>79</cp:revision>
  <dc:subject/>
  <dc:title>ADJUSTING ENTRY FOR SUPPLIES</dc:title>
</cp:coreProperties>
</file>